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9E4-5C45-47BB-B032-16F1E1D2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AEC-C48F-46BB-9CD1-E48A41F2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183-24D7-47B2-A2E3-9EBF7CDD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034-6477-4BE8-9AB9-C9FD446E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8EF-F744-47AD-8FDE-30E7B6A1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200-D246-46FC-9F1E-01408C7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C5C-36EF-423D-AA51-A864BD56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000-FB08-4CBA-8F06-54A4B69A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659-D67D-4AC6-AD7C-8C7AD13B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5D4-D006-479B-9907-786D0AB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FEF-8465-4B09-B7E8-15D487CC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3DF-BB81-439E-BE0C-316FD1E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8EE2-0886-4823-A380-DC9F0C79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cn.net/ca/cap/ataoqi053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artcn.net/ca/cap/ataoqi028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artcn.net/ca/cap/ataoqi032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ISTORIC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438200" cy="219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6765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Gravesite in Henan"/>
          <p:cNvPicPr/>
          <p:nvPr/>
        </p:nvPicPr>
        <p:blipFill>
          <a:blip r:embed="rId4"/>
          <a:stretch/>
        </p:blipFill>
        <p:spPr>
          <a:xfrm>
            <a:off x="2666880" y="1447920"/>
            <a:ext cx="3733920" cy="27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4724280"/>
            <a:ext cx="141768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1676520"/>
            <a:ext cx="1714320" cy="130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2971800" y="4343400"/>
            <a:ext cx="327672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ins of Yin date back to the Shang dynasty. A number of tombs were discovered at this site, but only one, that of Fuo Hao, was undistur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Ruins and museum of Yin Xu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81120" y="68544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ade carving discovered in Fuo Hao's tomb. Fuo Hao was a wife of King Wu Ding during the Shang dynasty and is reported to have served as a military leader. Her tomb was untouched when discovered in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Jade carving discovered in Shang dynasty tomb"/>
          <p:cNvPicPr/>
          <p:nvPr/>
        </p:nvPicPr>
        <p:blipFill>
          <a:blip r:embed="rId1"/>
          <a:stretch/>
        </p:blipFill>
        <p:spPr>
          <a:xfrm>
            <a:off x="457200" y="685800"/>
            <a:ext cx="4324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human sacrifice is common in elite tombs of the Shang dynas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Skeletons at Shang dynasty sacrificial site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bron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wine vessel, shaped in the form of an elephant with uplifted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Shang dynasty bronze vessel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nese archeologist works at a newly discovered pit of chariots and horses in the ruins of Yin. Five of the seven pits are arranged in a line, with chariots and horses facing eastwar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Chariot and horse remains at Yin ruins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6002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0-105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4382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On the Huang He River in the North China 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4956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A series of rulers from the sam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562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From the tombs and artifacts we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The Shang dynasty is important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733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10,000 B.C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farmers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houses built partially underground with plastered floors and roofs supported by wooden b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painted potte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geometric designs on it   They used a kiln but no potter’s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35200" cy="277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23524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2286000" y="327672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000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near the Huang He (Yellow) River in northeast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that raised cattle, sheep, pigs, and dogs and grew wheat and mi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ettled in southern China to grow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arose to complete projects to contro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lack pottery using a kiln and a potter’s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harvest silk from silkworms to weave fabric which became a major export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9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629400" y="2438280"/>
            <a:ext cx="179856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of the Prehistoric settlements around 2000 B.C.E. (ruled for about 300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bout them from legends and eventually what archeologists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bronze weapon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po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s communicated with spirits for help and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by the Shang, 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eventually become China’s first dynasty when and if more evidence is found ab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70200" cy="274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373392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24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tortoise shell with pictographs. The Shang dynasty is the earliest Chinese dynasty supported by archeological and written evidenc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Shang pictographs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8:43:50Z</dcterms:created>
  <dc:creator>gehadde</dc:creator>
  <dc:description/>
  <dc:language>en-US</dc:language>
  <cp:lastModifiedBy>gehadde</cp:lastModifiedBy>
  <dcterms:modified xsi:type="dcterms:W3CDTF">2012-03-09T14:12:23Z</dcterms:modified>
  <cp:revision>18</cp:revision>
  <dc:subject/>
  <dc:title>SHANG DYNASTY</dc:title>
</cp:coreProperties>
</file>